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6586560"/>
            <a:ext cx="9153360" cy="28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3240" y="5707080"/>
            <a:ext cx="9144000" cy="115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2"/>
          <p:cNvSpPr/>
          <p:nvPr/>
        </p:nvSpPr>
        <p:spPr>
          <a:xfrm>
            <a:off x="7421400" y="2556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  <a:ea typeface="Arial"/>
              </a:rPr>
              <a:t>www.ria.e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552680" y="2457360"/>
            <a:ext cx="60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6000" spc="-1" strike="noStrike">
                <a:solidFill>
                  <a:srgbClr val="376092"/>
                </a:solidFill>
                <a:latin typeface="Arial"/>
                <a:ea typeface="Arial"/>
              </a:rPr>
              <a:t>Thank You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7421400" y="2556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  <a:ea typeface="Arial"/>
              </a:rPr>
              <a:t>www.ria.e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594400"/>
            <a:ext cx="914400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6586560"/>
            <a:ext cx="915336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3"/>
          <a:stretch/>
        </p:blipFill>
        <p:spPr>
          <a:xfrm>
            <a:off x="3240" y="5707080"/>
            <a:ext cx="9144000" cy="1150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7421400" y="2556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  <a:ea typeface="Arial"/>
              </a:rPr>
              <a:t>www.ria.e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263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5"/>
          <a:stretch/>
        </p:blipFill>
        <p:spPr>
          <a:xfrm>
            <a:off x="3240" y="5707080"/>
            <a:ext cx="914400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0" y="6586560"/>
            <a:ext cx="9153360" cy="285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3240" y="5707080"/>
            <a:ext cx="9144000" cy="1150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7421400" y="25560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  <a:ea typeface="Arial"/>
              </a:rPr>
              <a:t>www.ria.e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4"/>
          <a:stretch/>
        </p:blipFill>
        <p:spPr>
          <a:xfrm>
            <a:off x="3240" y="5707080"/>
            <a:ext cx="9144000" cy="1150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1863720"/>
            <a:ext cx="605628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oni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57200" y="5716440"/>
            <a:ext cx="160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1b2c80"/>
                </a:solidFill>
                <a:latin typeface="Calibri"/>
              </a:rPr>
              <a:t>The Estonian approach on ICS security assess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9236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Ragnar Rat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Cyber Security Expe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CIIP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b2c80"/>
                </a:solidFill>
                <a:latin typeface="Calibri"/>
              </a:rPr>
              <a:t>Outline of my t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Short background of EISA &amp; CIIP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Why are we doing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ICS/SCADA security 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How and what are we do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b2c80"/>
                </a:solidFill>
                <a:latin typeface="Calibri"/>
              </a:rPr>
              <a:t>EISA and CIIP depar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EISA cyber security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CIIP, CERT-EE, Supervision, Baseline security standard development (ISK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CIIP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Arrange CII protection on the nation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Risks analysis, guidelines/controls development, community building, consulting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en-US" sz="2800" spc="-1" strike="noStrike" u="sng">
                <a:solidFill>
                  <a:srgbClr val="5973a2"/>
                </a:solidFill>
                <a:uFillTx/>
                <a:latin typeface="Calibri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6040" indent="-44784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b2c80"/>
                </a:solidFill>
                <a:latin typeface="Calibri"/>
              </a:rPr>
              <a:t>CIIP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41300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43 vital (critical)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Electricity sup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Gas sup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Railway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Water supply, sewerage and district heating for larger tow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800" spc="-1" strike="noStrike">
                <a:solidFill>
                  <a:srgbClr val="5973a2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b2c80"/>
                </a:solidFill>
                <a:latin typeface="Calibri"/>
              </a:rPr>
              <a:t>ICS security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Find out what is the “real” security level of vital service provi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How potential attacker could disrupt serv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Based on attack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Verified with penetration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b2c80"/>
                </a:solidFill>
                <a:latin typeface="Calibri"/>
              </a:rPr>
              <a:t>ICS security assessments: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Voluntary, state spons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Using 3</a:t>
            </a:r>
            <a:r>
              <a:rPr b="0" lang="en-US" sz="3200" spc="-1" strike="noStrike" baseline="30000">
                <a:solidFill>
                  <a:srgbClr val="5973a2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 party consul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White or gray box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Comprehensive assessment of IT systems (including ICS/SCA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b2c80"/>
                </a:solidFill>
                <a:latin typeface="Calibri"/>
              </a:rPr>
              <a:t>Typical assessment task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Information gathering from public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Network per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Workstation &amp; 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Remote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Physica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Disaster recovery plans, architecture, security policies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b2c80"/>
                </a:solidFill>
                <a:latin typeface="Calibri"/>
              </a:rPr>
              <a:t>To sum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Regular” IT is extensively used by 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5973a2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973a2"/>
                </a:solidFill>
                <a:latin typeface="Calibri"/>
              </a:rPr>
              <a:t>quick wins” can be achieved by improving IT secur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spcBef>
                <a:spcPts val="601"/>
              </a:spcBef>
              <a:buClr>
                <a:srgbClr val="5973a2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5952960" y="4508640"/>
            <a:ext cx="27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973a2"/>
                </a:solidFill>
                <a:latin typeface="Calibri"/>
              </a:rPr>
              <a:t>Ragnar Ratt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973a2"/>
                </a:solidFill>
                <a:latin typeface="Calibri"/>
              </a:rPr>
              <a:t>ragnar.rattas@ria.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8:48:41Z</dcterms:created>
  <dc:creator>Joosep</dc:creator>
  <dc:description/>
  <dc:language>en-US</dc:language>
  <cp:lastModifiedBy>Ragnar</cp:lastModifiedBy>
  <cp:lastPrinted>2012-01-29T12:18:22Z</cp:lastPrinted>
  <dcterms:modified xsi:type="dcterms:W3CDTF">2013-09-30T17:45:12Z</dcterms:modified>
  <cp:revision>94</cp:revision>
  <dc:subject/>
  <dc:title>PowerPoint Presentation</dc:title>
</cp:coreProperties>
</file>